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3AF9-0DD4-4519-84E2-CF9979D6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2E76-B872-414B-A4C7-1F29F7B0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88D8-381D-4BFC-9D31-EFE73B053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6EA3-DD46-4AE2-972A-1855ECD68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8358-2BA0-4170-9688-04503A80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9E02-D9C6-48AB-B3AC-C4A44388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8E58-8484-4985-A402-38360620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3397-B76B-45F8-9EEF-89FB6A75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05E4-F4CD-4B96-9351-4C0711CD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1332-6765-49DF-A8DC-158BBCB7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31C8-264E-4144-9247-A12E8141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34FB-0CD6-4CFE-B52B-10371375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224B-51F5-4153-BD85-C392350D4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609480"/>
            <a:ext cx="7924680" cy="556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66680" y="1066680"/>
            <a:ext cx="708660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00"/>
                </a:solidFill>
                <a:latin typeface="Century Gothic"/>
              </a:rPr>
              <a:t>Sequence the Story</a:t>
            </a:r>
            <a:endParaRPr b="1" lang="en-US" sz="6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00"/>
                </a:solidFill>
                <a:latin typeface="Century Gothic"/>
              </a:rPr>
              <a:t>put the events in order</a:t>
            </a:r>
            <a:endParaRPr b="1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685800" y="609480"/>
            <a:ext cx="7924680" cy="556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143000" y="1447920"/>
            <a:ext cx="708660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00"/>
                </a:solidFill>
                <a:latin typeface="Century Gothic"/>
              </a:rPr>
              <a:t>First</a:t>
            </a:r>
            <a:endParaRPr b="1" lang="en-US" sz="6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00"/>
                </a:solidFill>
                <a:latin typeface="Century Gothic"/>
              </a:rPr>
              <a:t>Julian meets Gloria</a:t>
            </a:r>
            <a:endParaRPr b="1" lang="en-US" sz="6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85800" y="609480"/>
            <a:ext cx="7924680" cy="556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1143000" y="914400"/>
            <a:ext cx="708660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00"/>
                </a:solidFill>
                <a:latin typeface="Century Gothic"/>
              </a:rPr>
              <a:t>Next</a:t>
            </a:r>
            <a:endParaRPr b="1" lang="en-US" sz="6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Century Gothic"/>
              </a:rPr>
              <a:t>Julian shows  Gloria a robin’s nest and his rock collection.  Gloria asks him if he knows how to make wishes and a kite.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685800" y="609480"/>
            <a:ext cx="7924680" cy="556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990720" y="1143000"/>
            <a:ext cx="7086600" cy="52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00"/>
                </a:solidFill>
                <a:latin typeface="Century Gothic"/>
              </a:rPr>
              <a:t>Then</a:t>
            </a:r>
            <a:endParaRPr b="1" lang="en-US" sz="6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00"/>
                </a:solidFill>
                <a:latin typeface="Century Gothic"/>
              </a:rPr>
              <a:t>Gloria and Julian make a kite and write their wishes.</a:t>
            </a:r>
            <a:endParaRPr b="1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85800" y="609480"/>
            <a:ext cx="7924680" cy="556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1143000" y="838080"/>
            <a:ext cx="7086600" cy="48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00"/>
                </a:solidFill>
                <a:latin typeface="Century Gothic"/>
              </a:rPr>
              <a:t>Finally</a:t>
            </a:r>
            <a:endParaRPr b="1" lang="en-US" sz="6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00"/>
                </a:solidFill>
                <a:latin typeface="Century Gothic"/>
              </a:rPr>
              <a:t>The children attach the wishes to the tail of the kite and fly the kite.</a:t>
            </a:r>
            <a:endParaRPr b="1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02:35:36Z</dcterms:created>
  <dc:creator>Resource User</dc:creator>
  <dc:description/>
  <dc:language>en-US</dc:language>
  <cp:lastModifiedBy>Nancy</cp:lastModifiedBy>
  <dcterms:modified xsi:type="dcterms:W3CDTF">2012-06-28T23:52:06Z</dcterms:modified>
  <cp:revision>4</cp:revision>
  <dc:subject/>
  <dc:title>PowerPoint Presentation</dc:title>
</cp:coreProperties>
</file>